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303-CFBF-4360-A09C-FD2038BA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083-796C-4DBB-87E3-83AC6E90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025-9BE2-4FAC-8BD6-3B79FBEE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E79-6FBF-496E-9926-5E1AC7DC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A600-6968-4FC8-8713-17569D7B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27DE-6369-42FE-8C13-22F3471A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DD2-B81F-455B-89C0-942EE326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367B-5B14-4A37-A45B-04B259C0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F528-F354-414E-9C1F-84B96787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161-C094-4A0B-A0BE-06DF28B3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F77-E8A0-445A-AEDC-332DD2CA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FA55-9047-4B77-A7A9-960468FC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F046-8FF0-4B05-A67E-66C85296B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51814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9:06:53Z</dcterms:created>
  <dc:creator>St. Jude School</dc:creator>
  <dc:description/>
  <dc:language>en-US</dc:language>
  <cp:lastModifiedBy>St. Jude School</cp:lastModifiedBy>
  <dcterms:modified xsi:type="dcterms:W3CDTF">2010-01-11T19:10:18Z</dcterms:modified>
  <cp:revision>1</cp:revision>
  <dc:subject/>
  <dc:title>Slide 1</dc:title>
</cp:coreProperties>
</file>